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3150-23E9-4FFC-A572-94CCD8E7D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23EC-97AC-47CF-B388-F1701AB95876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9EF5-0C5C-4B49-83E0-2E87F0DAD145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E42-FD28-4957-AC68-EFA45C4BD2D3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AE3B-66DA-4233-963C-C2F859EAA755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BAE8-18C6-4211-BF64-7AC0C1D5D96F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5A0D-E5D3-4773-80D1-2E2F2A45A2C4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4FFC-E280-4D0E-B785-5E731BF82736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BA9A-6E43-45AE-969E-A6DBDD19442E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56A-3471-49D5-8D14-760183CACD9D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BD22-D0A2-40A0-A149-3510ECCDCE77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6C81-A285-4307-8F65-30F6E6050471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1F25-4293-4BF3-8EAB-CE746D1781B1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0FC6-4BB2-43C2-BFF2-6A8CB3C5232B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0C33-D360-4B92-A582-E23135C8D724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43E-40BF-42C9-AA1C-3E5201BE1DBA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6C49-73AA-4CFE-B35E-E2FE8616EEB9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317E-442F-4787-B2DD-D96C3C57D54F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510F-9854-4B2A-B950-4A44B81BAC35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E8A7-C5E9-48DF-8AB1-EB016E6ED20E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200-2C3D-4AD1-841C-24A6F4523B87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5CDA-A5DD-452A-B0B1-FDB637E5C015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61B3-C1C3-488B-A0F1-54A243700A0A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F057-0EFC-4D32-A1B1-1AA4577790D2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9258-B8C8-460F-B106-6A8A01CFC121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C604-D1D5-4593-803A-70714374EAE4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B611-876B-4F29-A367-0518B5F8F023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several species may share a habitat they each have their own niche.  A niche is a very narrow range where a species fits within a habit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8B0-4BBB-4597-8C8E-892D7245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821-9816-4D75-AF23-F131F0A2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708-319B-486D-9EC2-A0A3C66A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73C-CF67-42EC-B68F-F93A5A1E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38B3-5D76-444D-BF95-A5ADC548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0FDA-D744-4294-8699-C235BA3E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1F76-4BFC-4D55-BE6A-F28623F1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64AB-E3C4-4814-8388-8F1D140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9057-1D59-4E0F-99EF-A8634ED0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22B8-3C97-4AAD-BD36-1CE3C36B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39A9-C48B-42AF-8B7F-DD76D06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D11-E410-481C-AB48-51119BAD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DC7D-7B9F-4160-B3F9-3D21671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50E-3DB6-48E5-8AB7-EB2ACDF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DF94-3873-41E7-9216-FFC9FF73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F6DE-4269-43FD-A752-5BD94591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6BAA-74C1-441B-87B4-1720A472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A9B-064A-4FD8-A533-12DC0B1B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664-F0AD-4EC9-8246-AACB6F74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CD2-1394-4962-A454-BFB3B34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8B9-CC81-4C95-A176-5AC56352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0EC-54F8-4481-9C7E-8A080C16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D84-A19A-4232-B9AA-090A4D55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BBE-15E4-4672-A762-D9556FBD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15BB-7C19-4445-8C20-E98AAB07D32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2CCC-CF13-4F29-B30D-12F251597CFC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Arial"/>
              </a:rPr>
              <a:t>Population Ecolog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Ch. 52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EBMAP2"/>
          <p:cNvPicPr/>
          <p:nvPr/>
        </p:nvPicPr>
        <p:blipFill>
          <a:blip r:embed="rId1"/>
          <a:stretch/>
        </p:blipFill>
        <p:spPr>
          <a:xfrm>
            <a:off x="1143000" y="380880"/>
            <a:ext cx="7718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Immigration-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movement of individuals into a population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Emigration-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  <a:ea typeface="Times New Roman"/>
              </a:rPr>
              <a:t>movement of individuals out of a population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 Factors that affect dens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 Factors that affect dens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.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Density-dependent factors-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Biotic factors in the environment that have an increasing effect as population size increas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Ex.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diseas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competi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parasit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.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Density-independent factors-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  <a:ea typeface="Times New Roman"/>
              </a:rPr>
              <a:t>Abiotic factors in the environment that affect populations regardless of their dens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Ex.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temperatur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stor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habitat destruc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drought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 Factors that affect dens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124080" y="1600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Immigr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1240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Emigr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3429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Natal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1028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Mortal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971800" y="3352680"/>
            <a:ext cx="3200400" cy="642600"/>
          </a:xfrm>
          <a:prstGeom prst="rect">
            <a:avLst/>
          </a:prstGeom>
          <a:noFill/>
          <a:ln w="284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4495680" y="2209680"/>
            <a:ext cx="0" cy="99072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4495680" y="4114800"/>
            <a:ext cx="0" cy="144792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1981080" y="3733920"/>
            <a:ext cx="838440" cy="0"/>
          </a:xfrm>
          <a:prstGeom prst="line">
            <a:avLst/>
          </a:prstGeom>
          <a:ln w="2844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324120" y="3733920"/>
            <a:ext cx="762120" cy="0"/>
          </a:xfrm>
          <a:prstGeom prst="line">
            <a:avLst/>
          </a:prstGeom>
          <a:ln w="2844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057400" y="28195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733920" y="22860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724280" y="48006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400800" y="28195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44792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Factors That Affect Future Population Growth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609480" y="2133720"/>
            <a:ext cx="83059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3. Dispersion:describes their spacing relative to each other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clumped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even or uniform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random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30" descr="so51_01"/>
          <p:cNvPicPr/>
          <p:nvPr/>
        </p:nvPicPr>
        <p:blipFill>
          <a:blip r:embed="rId1"/>
          <a:stretch/>
        </p:blipFill>
        <p:spPr>
          <a:xfrm>
            <a:off x="1066680" y="228600"/>
            <a:ext cx="5437440" cy="6292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31"/>
          <p:cNvSpPr/>
          <p:nvPr/>
        </p:nvSpPr>
        <p:spPr>
          <a:xfrm>
            <a:off x="6400800" y="838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clumpe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Text Box 1032"/>
          <p:cNvSpPr/>
          <p:nvPr/>
        </p:nvSpPr>
        <p:spPr>
          <a:xfrm>
            <a:off x="6477120" y="28954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even (uniform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Text Box 1033"/>
          <p:cNvSpPr/>
          <p:nvPr/>
        </p:nvSpPr>
        <p:spPr>
          <a:xfrm>
            <a:off x="6477120" y="4800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rando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Line 1034"/>
          <p:cNvSpPr/>
          <p:nvPr/>
        </p:nvSpPr>
        <p:spPr>
          <a:xfrm flipH="1">
            <a:off x="5334120" y="3352680"/>
            <a:ext cx="1218960" cy="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1" name="Line 1035"/>
          <p:cNvSpPr/>
          <p:nvPr/>
        </p:nvSpPr>
        <p:spPr>
          <a:xfrm flipH="1">
            <a:off x="5409720" y="5257800"/>
            <a:ext cx="1219320" cy="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Line 1036"/>
          <p:cNvSpPr/>
          <p:nvPr/>
        </p:nvSpPr>
        <p:spPr>
          <a:xfrm flipH="1">
            <a:off x="5334120" y="1523880"/>
            <a:ext cx="1218960" cy="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dispersion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4343400" y="533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Population Dispers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Other factors that affect population growt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Limiting factor-</a:t>
            </a:r>
            <a:r>
              <a:rPr b="1" lang="en-US" sz="3600" spc="-1" strike="noStrike">
                <a:solidFill>
                  <a:srgbClr val="ffffe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any biotic or abiotic factor that restricts the existence of organisms in a specific environment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X.- 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Amount of water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Amount of food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Temperature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fqc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581280" y="190512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organisms pres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91320" y="68580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w organisms pres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00200" y="60948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w organisms pres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2514600" y="2133720"/>
            <a:ext cx="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6629400" y="228600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0" y="685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7848720" y="685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457200" y="129528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1066680" y="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imiting Factor- Zone of Tolera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opulation Dynamic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09480" y="2133720"/>
            <a:ext cx="80010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opulation: 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all the individuals of a species that live together in an area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emography: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the statistical study of populations, make predictions about how a population will change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Growth Model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ponential Growth – Assumes no limits on resources, no competition, no pred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. 1            </a:t>
            </a:r>
            <a:r>
              <a:rPr b="1" lang="el-GR" sz="4400" spc="-1" strike="noStrike" u="sng">
                <a:solidFill>
                  <a:srgbClr val="005cb9"/>
                </a:solidFill>
                <a:uFillTx/>
                <a:latin typeface="Times New Roman"/>
              </a:rPr>
              <a:t>Δ</a:t>
            </a:r>
            <a:r>
              <a:rPr b="1" lang="en-US" sz="4400" spc="-1" strike="noStrike" u="sng">
                <a:solidFill>
                  <a:srgbClr val="005cb9"/>
                </a:solidFill>
                <a:uFillTx/>
                <a:latin typeface="Times New Roman"/>
              </a:rPr>
              <a:t>N/Δt = r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ate of growth (r) = 1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43000" y="4572000"/>
          <a:ext cx="6858000" cy="1270080"/>
        </p:xfrm>
        <a:graphic>
          <a:graphicData uri="http://schemas.openxmlformats.org/drawingml/2006/table">
            <a:tbl>
              <a:tblPr/>
              <a:tblGrid>
                <a:gridCol w="979560"/>
                <a:gridCol w="979560"/>
                <a:gridCol w="979200"/>
                <a:gridCol w="981360"/>
                <a:gridCol w="979200"/>
                <a:gridCol w="979560"/>
                <a:gridCol w="9795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Growth Model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ponential Growth – Assumes no limits on resources, no competition, no pred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. 2            </a:t>
            </a:r>
            <a:r>
              <a:rPr b="1" lang="el-GR" sz="4400" spc="-1" strike="noStrike" u="sng">
                <a:solidFill>
                  <a:srgbClr val="005cb9"/>
                </a:solidFill>
                <a:uFillTx/>
                <a:latin typeface="Times New Roman"/>
              </a:rPr>
              <a:t>Δ</a:t>
            </a:r>
            <a:r>
              <a:rPr b="1" lang="en-US" sz="4400" spc="-1" strike="noStrike" u="sng">
                <a:solidFill>
                  <a:srgbClr val="005cb9"/>
                </a:solidFill>
                <a:uFillTx/>
                <a:latin typeface="Times New Roman"/>
              </a:rPr>
              <a:t>N/Δt = r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 = 0.5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00200" y="4876920"/>
          <a:ext cx="6324480" cy="1269720"/>
        </p:xfrm>
        <a:graphic>
          <a:graphicData uri="http://schemas.openxmlformats.org/drawingml/2006/table">
            <a:tbl>
              <a:tblPr/>
              <a:tblGrid>
                <a:gridCol w="419040"/>
                <a:gridCol w="558720"/>
                <a:gridCol w="489240"/>
                <a:gridCol w="590400"/>
                <a:gridCol w="533520"/>
                <a:gridCol w="533160"/>
                <a:gridCol w="609840"/>
                <a:gridCol w="609480"/>
                <a:gridCol w="609480"/>
                <a:gridCol w="685800"/>
                <a:gridCol w="6858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570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855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283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924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e8e8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www.galaxynet.com/~corvid/eco/images/exponential_growth.gif"/>
          <p:cNvPicPr/>
          <p:nvPr/>
        </p:nvPicPr>
        <p:blipFill>
          <a:blip r:embed="rId1"/>
          <a:stretch/>
        </p:blipFill>
        <p:spPr>
          <a:xfrm>
            <a:off x="380880" y="380880"/>
            <a:ext cx="8401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09480" y="2133720"/>
            <a:ext cx="8001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rrying Capacity-</a:t>
            </a:r>
            <a:r>
              <a:rPr b="1" lang="en-US" sz="3200" spc="-1" strike="noStrike">
                <a:solidFill>
                  <a:srgbClr val="ffffe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5cb9"/>
                </a:solidFill>
                <a:latin typeface="Arial"/>
              </a:rPr>
              <a:t>(K)</a:t>
            </a:r>
            <a:r>
              <a:rPr b="1" lang="en-US" sz="3200" spc="-1" strike="noStrike">
                <a:solidFill>
                  <a:srgbClr val="ffffe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 maximum population size that can be supported by the available resourc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There can only be as many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organisms as the environmental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resources can suppor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Number varies on environment/speci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Growth Mode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621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rrying Capacity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52280" y="609480"/>
            <a:ext cx="899172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 flipV="1">
            <a:off x="1066680" y="990360"/>
            <a:ext cx="0" cy="518148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1066680" y="6172200"/>
            <a:ext cx="7925040" cy="0"/>
          </a:xfrm>
          <a:prstGeom prst="line">
            <a:avLst/>
          </a:prstGeom>
          <a:ln w="381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82" name="AutoShape 6"/>
          <p:cNvCxnSpPr>
            <a:stCxn id="181" idx="0"/>
          </p:cNvCxnSpPr>
          <p:nvPr/>
        </p:nvCxnSpPr>
        <p:spPr>
          <a:xfrm flipH="1" flipV="1" rot="5400000">
            <a:off x="3580200" y="627840"/>
            <a:ext cx="3048840" cy="8078040"/>
          </a:xfrm>
          <a:prstGeom prst="curvedConnector5">
            <a:avLst>
              <a:gd name="adj1" fmla="val 7546"/>
              <a:gd name="adj2" fmla="val 24730"/>
              <a:gd name="adj3" fmla="val 7546"/>
            </a:avLst>
          </a:prstGeom>
          <a:ln w="38160">
            <a:solidFill>
              <a:srgbClr val="33cc33"/>
            </a:solidFill>
            <a:miter/>
          </a:ln>
        </p:spPr>
      </p:cxnSp>
      <p:sp>
        <p:nvSpPr>
          <p:cNvPr id="183" name="Line 7"/>
          <p:cNvSpPr/>
          <p:nvPr/>
        </p:nvSpPr>
        <p:spPr>
          <a:xfrm>
            <a:off x="1066680" y="3124080"/>
            <a:ext cx="80773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4" name="Freeform 8"/>
          <p:cNvSpPr/>
          <p:nvPr/>
        </p:nvSpPr>
        <p:spPr>
          <a:xfrm>
            <a:off x="1143000" y="507960"/>
            <a:ext cx="1955880" cy="5587920"/>
          </a:xfrm>
          <a:prstGeom prst="pie">
            <a:avLst/>
          </a:pr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429000" y="2514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Carrying Capacity (k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80880" y="914400"/>
            <a:ext cx="685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Nu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733920" y="6172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124080" y="1066680"/>
            <a:ext cx="42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J-shaped curve (exponential growth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6019920" y="380988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S-shaped curve (logistic growth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arryingc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carrying_capacity_de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Growth Model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gistic Growth: Factors in carrying capacity (K)      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K = 1000 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4" name="Picture 3" descr="log.bmp"/>
          <p:cNvPicPr/>
          <p:nvPr/>
        </p:nvPicPr>
        <p:blipFill>
          <a:blip r:embed="rId3"/>
          <a:srcRect l="0" t="0" r="0" b="51553"/>
          <a:stretch/>
        </p:blipFill>
        <p:spPr>
          <a:xfrm>
            <a:off x="1295280" y="3809880"/>
            <a:ext cx="6248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www.bio.miami.edu/dana/pix/logisticpopns.gif"/>
          <p:cNvPicPr/>
          <p:nvPr/>
        </p:nvPicPr>
        <p:blipFill>
          <a:blip r:embed="rId1"/>
          <a:stretch/>
        </p:blipFill>
        <p:spPr>
          <a:xfrm>
            <a:off x="0" y="1066680"/>
            <a:ext cx="9121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2 Life History Patter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1. r-selection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short life span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small body siz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reproduce quickly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have many young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little parental care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Ex: cockroaches, weeds, bacteria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8" name="Picture 6" descr="flies"/>
          <p:cNvPicPr/>
          <p:nvPr/>
        </p:nvPicPr>
        <p:blipFill>
          <a:blip r:embed="rId2"/>
          <a:stretch/>
        </p:blipFill>
        <p:spPr>
          <a:xfrm>
            <a:off x="4419720" y="1752480"/>
            <a:ext cx="2590560" cy="243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ockroaches"/>
          <p:cNvPicPr/>
          <p:nvPr/>
        </p:nvPicPr>
        <p:blipFill>
          <a:blip r:embed="rId3"/>
          <a:stretch/>
        </p:blipFill>
        <p:spPr>
          <a:xfrm>
            <a:off x="6095880" y="4267080"/>
            <a:ext cx="2781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opulation Dynamic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2133720"/>
            <a:ext cx="8686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Size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Density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Dispersion Pattern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(clumped, uniform, random)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2 Life History Patter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28600" y="190512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Arial"/>
              </a:rPr>
              <a:t>2. K-selection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long life sp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large body size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reproduce slowly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have few young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provides parental care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Arial"/>
              </a:rPr>
              <a:t>Ex: humans, elephant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2" name="Picture 7" descr="r53180_143364"/>
          <p:cNvPicPr/>
          <p:nvPr/>
        </p:nvPicPr>
        <p:blipFill>
          <a:blip r:embed="rId2"/>
          <a:stretch/>
        </p:blipFill>
        <p:spPr>
          <a:xfrm>
            <a:off x="4038480" y="2895480"/>
            <a:ext cx="2210040" cy="3810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giraffe_babies_inset"/>
          <p:cNvPicPr/>
          <p:nvPr/>
        </p:nvPicPr>
        <p:blipFill>
          <a:blip r:embed="rId3"/>
          <a:stretch/>
        </p:blipFill>
        <p:spPr>
          <a:xfrm>
            <a:off x="6248520" y="2819520"/>
            <a:ext cx="259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uman Population Growth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o we have a K??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Yes, but our technology aims to increase it everyday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wp_history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2133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1. Size: number of individuals in an area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Picture 7" descr="Mute_Swan"/>
          <p:cNvPicPr/>
          <p:nvPr/>
        </p:nvPicPr>
        <p:blipFill>
          <a:blip r:embed="rId1"/>
          <a:stretch/>
        </p:blipFill>
        <p:spPr>
          <a:xfrm>
            <a:off x="1981080" y="2895480"/>
            <a:ext cx="617220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051"/>
          <p:cNvSpPr/>
          <p:nvPr/>
        </p:nvSpPr>
        <p:spPr>
          <a:xfrm>
            <a:off x="609480" y="2133720"/>
            <a:ext cx="8001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Growth Rate: Birth Rate (natality) - Death Rate (mortality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How many individuals are born vs. how many d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Birth rate (</a:t>
            </a:r>
            <a:r>
              <a:rPr b="1" i="1" lang="en-US" sz="3200" spc="-1" strike="noStrike">
                <a:solidFill>
                  <a:srgbClr val="00264c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) − death rate (</a:t>
            </a:r>
            <a:r>
              <a:rPr b="1" i="1" lang="en-US" sz="3200" spc="-1" strike="noStrike">
                <a:solidFill>
                  <a:srgbClr val="00264c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) = rate of natural increase (</a:t>
            </a:r>
            <a:r>
              <a:rPr b="1" i="1" lang="en-US" sz="3200" spc="-1" strike="noStrike">
                <a:solidFill>
                  <a:srgbClr val="00264c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b – d = 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Rectangle 2053"/>
          <p:cNvSpPr/>
          <p:nvPr/>
        </p:nvSpPr>
        <p:spPr>
          <a:xfrm>
            <a:off x="114300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opulation_pyramid_grow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0" y="4267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-REPRODUCTI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762120" y="4952880"/>
            <a:ext cx="7010280" cy="9907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3520" y="2971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ODUCTI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2286000" y="3352680"/>
            <a:ext cx="3809880" cy="160020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029200" y="838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T-REPRODUCTIV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3276720" y="990720"/>
            <a:ext cx="1752480" cy="236196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143000" y="457200"/>
            <a:ext cx="7010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Population of a Stable Country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8" name="Picture 3" descr="population_pyramid_stable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29" descr="c52x22pyram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ree Key Features of Population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2133720"/>
            <a:ext cx="830592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2. Density: measurement of population per unit area or unit volume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Formula: D</a:t>
            </a:r>
            <a:r>
              <a:rPr b="1" lang="en-US" sz="3600" spc="-1" strike="noStrike" baseline="-25000">
                <a:solidFill>
                  <a:srgbClr val="00264c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= </a:t>
            </a:r>
            <a:r>
              <a:rPr b="1" lang="en-US" sz="3600" spc="-1" strike="noStrike" u="sng">
                <a:solidFill>
                  <a:srgbClr val="00264c"/>
                </a:solidFill>
                <a:uFillTx/>
                <a:latin typeface="Arial"/>
              </a:rPr>
              <a:t>N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Pop. Density = # of individuals 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  <a:ea typeface="Times New Roman"/>
              </a:rPr>
              <a:t>÷ unit of space</a:t>
            </a:r>
            <a:r>
              <a:rPr b="1" lang="en-US" sz="2800" spc="-1" strike="noStrike">
                <a:solidFill>
                  <a:srgbClr val="00264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867280" y="4648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2:44:04Z</dcterms:created>
  <dc:creator>Heather Cadorette</dc:creator>
  <dc:description/>
  <dc:language>en-US</dc:language>
  <cp:lastModifiedBy>leanne</cp:lastModifiedBy>
  <dcterms:modified xsi:type="dcterms:W3CDTF">2010-04-07T19:29:55Z</dcterms:modified>
  <cp:revision>24</cp:revision>
  <dc:subject/>
  <dc:title>PowerPoint Presentation</dc:title>
</cp:coreProperties>
</file>